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A5A5-8528-414A-94C3-94A2438E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AF33-84C2-4898-A709-D3925BB4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F76E-C58A-4C1E-B3D5-14AA54D1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AB6C-9A47-4C95-A9AB-6E30B280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A48E-7DFA-41E8-BF14-2EACEE9D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B173-C588-43D6-905C-37B95F1A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A3E8-2E9F-4E26-BFBA-2A7E68D6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7B1B-EFA1-4D4C-961E-9BB46C01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7957-6371-4DC2-9CAD-7D58F367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37B2-980D-432D-A1C8-53982D1D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F2E6-A08C-4F95-AB7D-36E5AA40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66C8-F835-4829-9D9D-D6C6AAF2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3555-EE2C-4BA0-A1B2-0E0D6D20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078E-78D6-4AD1-80A0-14D47B9A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AD7C-A998-434F-96F3-6B30A265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57E2-E964-4864-A967-AB4DC4BD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1A42-F287-4A10-87FF-674CF6C4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2EF7-99ED-453F-9550-477460A1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9BA1-FC48-4E7A-801B-551E74D2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3C2-843A-4FCF-92F0-9D4B1BF4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350-D0B5-466A-A845-0DC73F14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5383-359C-4949-8C8D-8F30140D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57E3-EB4D-4608-B227-753ED749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3D18-E9FB-441F-A635-88AE56AE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DB5D-D0F2-4385-8F59-162D61B613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6717-01A8-417E-BA1A-99214325641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The vital presence of Hispanic groups in the U.S.A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Puerto-Rica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6099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econd biggest group of Hispanics in the U.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old U.S. citizenshi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live in New Yor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mous Puerto-Ricans: Ricky Martin, Marc Anthony, Soraida Martine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6678720" y="1828800"/>
            <a:ext cx="1860480" cy="23623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6424560" y="44197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icky Mar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7086600" y="5029200"/>
            <a:ext cx="106668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Cuban-America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6022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hird biggest group of Hispanics in the U.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of them reside in Florida, New Jersey and Californ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famous Cuban-Americans: Daisy Fuentes, Andy Garcia, Cameron Diaz, Gloria Estef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6586560" y="1523880"/>
            <a:ext cx="1906560" cy="24386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6879960" y="41148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me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063200" y="4572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a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7068960" y="5105520"/>
            <a:ext cx="108432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Central-America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2276640"/>
            <a:ext cx="854064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ourth biggest group of Hispanics in the U.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alvadorians are the biggest group among them. Most of them reside in Washington D. C. and Los Ange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ther Hispanic group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big groups: Spaniards, Peruvians, Dominicans, Bolivians, Venezuelans, Paraguayans, Colombia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Hispanic population in the U.S. surpasses 30 millions and includes a big variety of cultu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efore the year 150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54064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any Indian tribes inhabited the current U.S. territory before the Spaniards came to America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 1527 Alvarez Nuñez Cabeza de Vaca, a Spanish conqueror, started exploring the South and Southeast of today’s U.S. territorie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80010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etween 1600 and 180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927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paniards colonized what today is New Mex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nish missioners constructed Catholic missions in Texas and Californi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905120" y="1523880"/>
            <a:ext cx="5485680" cy="1523880"/>
            <a:chOff x="1905120" y="1523880"/>
            <a:chExt cx="5485680" cy="1523880"/>
          </a:xfrm>
        </p:grpSpPr>
        <p:pic>
          <p:nvPicPr>
            <p:cNvPr id="391" name="" descr=""/>
            <p:cNvPicPr/>
            <p:nvPr/>
          </p:nvPicPr>
          <p:blipFill>
            <a:blip r:embed="rId1"/>
            <a:stretch/>
          </p:blipFill>
          <p:spPr>
            <a:xfrm>
              <a:off x="5796360" y="1523880"/>
              <a:ext cx="1594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2"/>
            <a:stretch/>
          </p:blipFill>
          <p:spPr>
            <a:xfrm>
              <a:off x="3453120" y="1523880"/>
              <a:ext cx="23432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1905120" y="1523880"/>
              <a:ext cx="154260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Wars with Mexico (1846-1848)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and  Spain (1898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4120" y="1828440"/>
            <a:ext cx="3504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1848 the U.S. won the war with Mexico and took possession of California, Arizona, New Mexico and other stat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1898 the U.S. won the war with Spain and Spain lost Cuba and Puerto Ric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4419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irst half of the 20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Centu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2347920"/>
            <a:ext cx="854064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900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oraker act incorporates Puerto Rico to the U.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910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Mexican revolution increases immigrations to the U.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917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.S. citizenship is granted to all Puerto Rica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ond half of the 20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Centu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2076120"/>
            <a:ext cx="854064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959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uban revolution took place. A big Cuban exodus to the U.S. star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965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sar Chavez founded the United Farm Workers Organization in Californ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979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g immigrations from Central and South Ame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994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government of California negates education and medical insurance to illegal alie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vital presence of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ispanic groups in th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U.S.A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24000" y="3141360"/>
            <a:ext cx="854064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rt II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Pres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ispanics: The biggest minori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Hispanic groups in almost every city of the U.S.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four main groups of Hispanic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contributions to the economy and culture have become importa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Mexican-Americans or Chicano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640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y form the biggest group of Hispanic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y are found mainly in California, Nuevo Mexico, Arizona, Texas and Colorado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ome famous Chicanos: Edward James Olmos, Carlos Santana, Sandra Cisneros, Cesar Chavez, Antonio Villaraigosa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858000" y="1676520"/>
            <a:ext cx="1727280" cy="22096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7010280" y="40384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yor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81680" y="4419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s Ange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7162920" y="5095800"/>
            <a:ext cx="12952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7:27:23Z</dcterms:created>
  <dc:creator>RAMON MEDINA</dc:creator>
  <dc:description/>
  <dc:language>en-US</dc:language>
  <cp:lastModifiedBy>Daly Dominguez</cp:lastModifiedBy>
  <dcterms:modified xsi:type="dcterms:W3CDTF">2009-06-01T07:47:27Z</dcterms:modified>
  <cp:revision>15</cp:revision>
  <dc:subject/>
  <dc:title>The vital presence of Hispanic groups in the U.S.A.</dc:title>
</cp:coreProperties>
</file>